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B7493-0470-432C-A7D1-B95D40167BD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0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D61C7-98B6-4975-BC25-76699D710A2C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0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81D03-E673-445B-90D5-E3A393D0A501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6035CD-55F4-4C82-90CA-F2B2C88B1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33E0E9-A20E-47B5-B6D2-6E94DBCEB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58DAB6-C7B7-4E33-BA54-740345780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3990EE-202B-4B3F-A4EB-FF7FC57D0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88624E-2696-412E-9D1D-199DAF160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DACA29-36B0-47B1-AE83-E9FC1DCB8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CD369A-C4C3-48E0-AD50-F54D420F5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5845C3-2DFC-433F-90D5-AD7A79D59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4004EA-5750-4BAE-8A86-254BC7C04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8A2C78-6A25-4526-8DF7-9D0CFB9BC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017DDC-D0D3-4CB1-8FBA-5AEB59157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1719DD-7972-4E14-978B-36080FEC7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D3DB74-CA95-4929-82C9-8AC66149E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DBB022-DAF4-4D48-B0EC-F77792C3E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A4A5C0-36CD-4E13-925C-0DAA14AAD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953D1A-BB67-4833-ACDD-4B5C9FF5E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287B48-3DAE-41C0-936C-45A1F411B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8D62FB-67E8-4AAF-BA55-34BFA7C86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46DF9E-FFEC-4157-8D57-C81A3EBA2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E6EB3E-94CB-4FDE-8D6A-7E188367D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FC29D4-02A5-4B09-9464-2955DA758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430686-DF8A-4506-A016-C2E76AFAC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70994B-1438-4F52-97B1-AEEE5DAFA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9BE194-817F-4EA8-AF34-7D2703008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CF42A-6453-4C4F-B651-28A0C804CBFD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31"/>
            <p:cNvSpPr/>
            <p:nvPr/>
          </p:nvSpPr>
          <p:spPr>
            <a:xfrm rot="16200000">
              <a:off x="7776000" y="65977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9AAAB-D35B-452F-A085-F3158303A56A}" type="slidenum">
              <a:rPr b="0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04CB8-E698-4D6B-8112-EF3581843FA4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F6609-1EB3-4F9D-8C08-21646F13078F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76991-A7C1-403C-B063-5130131AB1E3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6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7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7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8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50B1D-1A77-48DF-AD84-FB4D96814D9B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1" name="Object 15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2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3" name="Group 16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334" name="Rectangle 17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5" name="Rectangle 18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6" name="Rectangle 19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37" name="Group 20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338" name="AutoShape 21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0" name="Freeform 23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Freeform 24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Freeform 25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3" name="Group 26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344" name="Picture 27" descr="Untitled-1 copy"/>
            <p:cNvPicPr/>
            <p:nvPr/>
          </p:nvPicPr>
          <p:blipFill>
            <a:blip r:embed="rId4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Picture 28" descr="Untitled-1 copy"/>
            <p:cNvPicPr/>
            <p:nvPr/>
          </p:nvPicPr>
          <p:blipFill>
            <a:blip r:embed="rId5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Picture 29" descr="Untitled-1 copy"/>
            <p:cNvPicPr/>
            <p:nvPr/>
          </p:nvPicPr>
          <p:blipFill>
            <a:blip r:embed="rId6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d528d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8FD84-A3EF-4016-870B-607BAE796699}" type="slidenum">
              <a:rPr b="0" lang="ko-KR" sz="1400" spc="-1" strike="noStrike">
                <a:solidFill>
                  <a:srgbClr val="1d528d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8000" y="285480"/>
            <a:ext cx="9036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2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부 노년기의 삶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욕구와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문제</a:t>
            </a:r>
            <a:endParaRPr b="0" lang="en-US" sz="48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96" name="Picture 4" descr="그림1"/>
          <p:cNvPicPr/>
          <p:nvPr/>
        </p:nvPicPr>
        <p:blipFill>
          <a:blip r:embed="rId1"/>
          <a:stretch/>
        </p:blipFill>
        <p:spPr>
          <a:xfrm>
            <a:off x="-42840" y="1616040"/>
            <a:ext cx="9302760" cy="280368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71680" y="1785960"/>
            <a:ext cx="831528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3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경제생활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4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건강과 케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HY강B"/>
                <a:ea typeface="HY강B"/>
              </a:rPr>
              <a:t>5</a:t>
            </a:r>
            <a:r>
              <a:rPr b="1" lang="ko-KR" sz="4000" spc="-1" strike="noStrike">
                <a:solidFill>
                  <a:srgbClr val="ffff00"/>
                </a:solidFill>
                <a:latin typeface="HY강B"/>
                <a:ea typeface="HY강B"/>
              </a:rPr>
              <a:t>장 치매의 이해</a:t>
            </a:r>
            <a:endParaRPr b="0" lang="en-US" sz="4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6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여가생활과 교육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7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주거생활과 고령친화산업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8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사회관계망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9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삶의 이면</a:t>
            </a: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(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裏面</a:t>
            </a: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)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3" name="그룹 11"/>
          <p:cNvGrpSpPr/>
          <p:nvPr/>
        </p:nvGrpSpPr>
        <p:grpSpPr>
          <a:xfrm>
            <a:off x="0" y="0"/>
            <a:ext cx="9358200" cy="6357960"/>
            <a:chOff x="0" y="0"/>
            <a:chExt cx="9358200" cy="6357960"/>
          </a:xfrm>
        </p:grpSpPr>
        <p:pic>
          <p:nvPicPr>
            <p:cNvPr id="524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5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4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치매의 예방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진단 및 치료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26" name="그룹 34"/>
            <p:cNvGrpSpPr/>
            <p:nvPr/>
          </p:nvGrpSpPr>
          <p:grpSpPr>
            <a:xfrm>
              <a:off x="285480" y="857160"/>
              <a:ext cx="8643960" cy="1928880"/>
              <a:chOff x="285480" y="857160"/>
              <a:chExt cx="8643960" cy="1928880"/>
            </a:xfrm>
          </p:grpSpPr>
          <p:sp>
            <p:nvSpPr>
              <p:cNvPr id="527" name="AutoShape 2"/>
              <p:cNvSpPr/>
              <p:nvPr/>
            </p:nvSpPr>
            <p:spPr>
              <a:xfrm>
                <a:off x="285480" y="1366920"/>
                <a:ext cx="8643960" cy="14191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8" name="AutoShape 4"/>
              <p:cNvSpPr/>
              <p:nvPr/>
            </p:nvSpPr>
            <p:spPr>
              <a:xfrm>
                <a:off x="356760" y="857160"/>
                <a:ext cx="3959280" cy="47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치매의 예방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9" name="Text Box 6"/>
              <p:cNvSpPr/>
              <p:nvPr/>
            </p:nvSpPr>
            <p:spPr>
              <a:xfrm>
                <a:off x="356760" y="1428480"/>
                <a:ext cx="8501400" cy="12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원인이 밝혀지지 않은 치매가 많고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밝혀진 원인 또한 매우 다양하므로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확실한 치매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예방법은 없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다만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뇌를 적극적으로 쓰고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혈압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심장병 등을 잘 관리하고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적극적 사회활동 참여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영양관리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안전사고 예방 등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세부 예방법 교재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158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30" name="그룹 34"/>
            <p:cNvGrpSpPr/>
            <p:nvPr/>
          </p:nvGrpSpPr>
          <p:grpSpPr>
            <a:xfrm>
              <a:off x="285480" y="2857320"/>
              <a:ext cx="8643960" cy="3500640"/>
              <a:chOff x="285480" y="2857320"/>
              <a:chExt cx="8643960" cy="3500640"/>
            </a:xfrm>
          </p:grpSpPr>
          <p:sp>
            <p:nvSpPr>
              <p:cNvPr id="531" name="AutoShape 2"/>
              <p:cNvSpPr/>
              <p:nvPr/>
            </p:nvSpPr>
            <p:spPr>
              <a:xfrm>
                <a:off x="285480" y="3346920"/>
                <a:ext cx="8643960" cy="30110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2" name="AutoShape 4"/>
              <p:cNvSpPr/>
              <p:nvPr/>
            </p:nvSpPr>
            <p:spPr>
              <a:xfrm>
                <a:off x="356760" y="2857320"/>
                <a:ext cx="4143240" cy="457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치매의 조기발견과 진단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3" name="Text Box 6"/>
              <p:cNvSpPr/>
              <p:nvPr/>
            </p:nvSpPr>
            <p:spPr>
              <a:xfrm>
                <a:off x="356760" y="3406320"/>
                <a:ext cx="8501400" cy="279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예방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치료가능성이 낮으므로 조기발견이 가장 바람직한 대응방법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MMSE-K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5-8 </a:t>
                </a:r>
                <a:r>
                  <a:rPr b="0" lang="ko-KR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하세가와 치매척도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9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삼성치매척도를 이용한 선별검사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‘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예전과 뭔가 다르다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.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’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 판단되면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조기에 전문의에 의한 진단 필요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진단과정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치매 유무의 판단＋치매의 원인에 대한 진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치매환자는 언어장애로 자신의 생활이나 증상을 설명하는데 어려움이 있으므로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주변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람들이 자세히 설명해주어야 함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치매진단의 전문적 검사의 종류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MRI, SPECT 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환자는 치매진단이 두려워 병원진료를 거부하므로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다른 질병 검사를 이유로 진단 받게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하는 것이 바람직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그룹 17"/>
          <p:cNvGrpSpPr/>
          <p:nvPr/>
        </p:nvGrpSpPr>
        <p:grpSpPr>
          <a:xfrm>
            <a:off x="181080" y="71280"/>
            <a:ext cx="8820000" cy="6286680"/>
            <a:chOff x="181080" y="71280"/>
            <a:chExt cx="8820000" cy="6286680"/>
          </a:xfrm>
        </p:grpSpPr>
        <p:sp>
          <p:nvSpPr>
            <p:cNvPr id="535" name="AutoShape 2"/>
            <p:cNvSpPr/>
            <p:nvPr/>
          </p:nvSpPr>
          <p:spPr>
            <a:xfrm>
              <a:off x="181080" y="499680"/>
              <a:ext cx="8820000" cy="1214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6" name="AutoShape 4"/>
            <p:cNvSpPr/>
            <p:nvPr/>
          </p:nvSpPr>
          <p:spPr>
            <a:xfrm>
              <a:off x="214200" y="71280"/>
              <a:ext cx="414324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500" spc="-1" strike="noStrike">
                  <a:solidFill>
                    <a:srgbClr val="ffffff"/>
                  </a:solidFill>
                  <a:latin typeface="HY강B"/>
                </a:rPr>
                <a:t>치매의 치료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37" name="그룹 2"/>
            <p:cNvGrpSpPr/>
            <p:nvPr/>
          </p:nvGrpSpPr>
          <p:grpSpPr>
            <a:xfrm>
              <a:off x="181080" y="1857240"/>
              <a:ext cx="8820000" cy="1807560"/>
              <a:chOff x="181080" y="1857240"/>
              <a:chExt cx="8820000" cy="1807560"/>
            </a:xfrm>
          </p:grpSpPr>
          <p:sp>
            <p:nvSpPr>
              <p:cNvPr id="538" name="AutoShape 2"/>
              <p:cNvSpPr/>
              <p:nvPr/>
            </p:nvSpPr>
            <p:spPr>
              <a:xfrm>
                <a:off x="181080" y="2194560"/>
                <a:ext cx="8820000" cy="14598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9" name="Text Box 6"/>
              <p:cNvSpPr/>
              <p:nvPr/>
            </p:nvSpPr>
            <p:spPr>
              <a:xfrm>
                <a:off x="285840" y="2226960"/>
                <a:ext cx="8643960" cy="143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지기능 유지 약물과 정신증상 완화 약물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지기능 유지 약물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아리셉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엑셀론 등이 있으나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초기단계에서 효과가 있으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말기에는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효과 없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작용 또한 많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신증상 완화 약물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항불안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항우울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면제 등이 있으나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처음부터 약물에 의존하기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다 다른 치료방법을 활용함이 것이 바람직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0" name="직사각형 5"/>
              <p:cNvSpPr/>
              <p:nvPr/>
            </p:nvSpPr>
            <p:spPr>
              <a:xfrm>
                <a:off x="214200" y="185724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약물치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41" name="Text Box 6"/>
            <p:cNvSpPr/>
            <p:nvPr/>
          </p:nvSpPr>
          <p:spPr>
            <a:xfrm>
              <a:off x="285840" y="571320"/>
              <a:ext cx="871524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치료가 불가능하다는 생각으로 치료를 포기하는 경우 많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그러나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0-15%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는 치료가 가능하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통제 가능한 치매도 최대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25%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도에 이르고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있으므로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적극적 치료활동이 필요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42" name="그룹 8"/>
            <p:cNvGrpSpPr/>
            <p:nvPr/>
          </p:nvGrpSpPr>
          <p:grpSpPr>
            <a:xfrm>
              <a:off x="181080" y="3822840"/>
              <a:ext cx="8820000" cy="1320840"/>
              <a:chOff x="181080" y="3822840"/>
              <a:chExt cx="8820000" cy="1320840"/>
            </a:xfrm>
          </p:grpSpPr>
          <p:sp>
            <p:nvSpPr>
              <p:cNvPr id="543" name="AutoShape 2"/>
              <p:cNvSpPr/>
              <p:nvPr/>
            </p:nvSpPr>
            <p:spPr>
              <a:xfrm>
                <a:off x="181080" y="4160520"/>
                <a:ext cx="8820000" cy="9831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4" name="Text Box 6"/>
              <p:cNvSpPr/>
              <p:nvPr/>
            </p:nvSpPr>
            <p:spPr>
              <a:xfrm>
                <a:off x="285840" y="4192560"/>
                <a:ext cx="8429760" cy="92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전통적 정신치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행동지향적 치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정지향적 치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지지향적 치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극지향적 치료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등이 효과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cure)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다는 보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care)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 더욱 의미가 있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5" name="직사각형 11"/>
              <p:cNvSpPr/>
              <p:nvPr/>
            </p:nvSpPr>
            <p:spPr>
              <a:xfrm>
                <a:off x="214200" y="382284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정신사회적 치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46" name="그룹 13"/>
            <p:cNvGrpSpPr/>
            <p:nvPr/>
          </p:nvGrpSpPr>
          <p:grpSpPr>
            <a:xfrm>
              <a:off x="181080" y="5322960"/>
              <a:ext cx="8820000" cy="1035000"/>
              <a:chOff x="181080" y="5322960"/>
              <a:chExt cx="8820000" cy="1035000"/>
            </a:xfrm>
          </p:grpSpPr>
          <p:sp>
            <p:nvSpPr>
              <p:cNvPr id="547" name="AutoShape 2"/>
              <p:cNvSpPr/>
              <p:nvPr/>
            </p:nvSpPr>
            <p:spPr>
              <a:xfrm>
                <a:off x="181080" y="5660640"/>
                <a:ext cx="8820000" cy="697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8" name="Text Box 6"/>
              <p:cNvSpPr/>
              <p:nvPr/>
            </p:nvSpPr>
            <p:spPr>
              <a:xfrm>
                <a:off x="285840" y="5692680"/>
                <a:ext cx="8429760" cy="63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초기단계에서는 인지기능 유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간단계에서는 안전 사고의 예방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말기단계에서는 식사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목욕 등의 기본적 일상생활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care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를 중시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9" name="직사각형 16"/>
              <p:cNvSpPr/>
              <p:nvPr/>
            </p:nvSpPr>
            <p:spPr>
              <a:xfrm>
                <a:off x="214200" y="532296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단계별 치료전략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0" name="그룹 18"/>
          <p:cNvGrpSpPr/>
          <p:nvPr/>
        </p:nvGrpSpPr>
        <p:grpSpPr>
          <a:xfrm>
            <a:off x="0" y="0"/>
            <a:ext cx="9358200" cy="6452280"/>
            <a:chOff x="0" y="0"/>
            <a:chExt cx="9358200" cy="6452280"/>
          </a:xfrm>
        </p:grpSpPr>
        <p:pic>
          <p:nvPicPr>
            <p:cNvPr id="551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2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5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치매노인의 간호방법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53" name="그룹 46"/>
            <p:cNvGrpSpPr/>
            <p:nvPr/>
          </p:nvGrpSpPr>
          <p:grpSpPr>
            <a:xfrm>
              <a:off x="285480" y="785520"/>
              <a:ext cx="8715600" cy="1643040"/>
              <a:chOff x="285480" y="785520"/>
              <a:chExt cx="8715600" cy="1643040"/>
            </a:xfrm>
          </p:grpSpPr>
          <p:sp>
            <p:nvSpPr>
              <p:cNvPr id="554" name="AutoShape 2"/>
              <p:cNvSpPr/>
              <p:nvPr/>
            </p:nvSpPr>
            <p:spPr>
              <a:xfrm>
                <a:off x="285480" y="1142640"/>
                <a:ext cx="8715600" cy="1285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55" name="그룹 10"/>
              <p:cNvGrpSpPr/>
              <p:nvPr/>
            </p:nvGrpSpPr>
            <p:grpSpPr>
              <a:xfrm>
                <a:off x="356760" y="785520"/>
                <a:ext cx="8644320" cy="1621800"/>
                <a:chOff x="356760" y="785520"/>
                <a:chExt cx="8644320" cy="1621800"/>
              </a:xfrm>
            </p:grpSpPr>
            <p:sp>
              <p:nvSpPr>
                <p:cNvPr id="556" name="AutoShape 4"/>
                <p:cNvSpPr/>
                <p:nvPr/>
              </p:nvSpPr>
              <p:spPr>
                <a:xfrm>
                  <a:off x="356760" y="785520"/>
                  <a:ext cx="4643640" cy="360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300" spc="-1" strike="noStrike">
                      <a:solidFill>
                        <a:srgbClr val="ffffff"/>
                      </a:solidFill>
                      <a:latin typeface="HY강B"/>
                    </a:rPr>
                    <a:t>1) </a:t>
                  </a:r>
                  <a:r>
                    <a:rPr b="1" lang="ko-KR" sz="2300" spc="-1" strike="noStrike">
                      <a:solidFill>
                        <a:srgbClr val="ffffff"/>
                      </a:solidFill>
                      <a:latin typeface="HY강B"/>
                    </a:rPr>
                    <a:t>치매노인의 간호원칙</a:t>
                  </a:r>
                  <a:endParaRPr b="0" lang="en-US" sz="23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57" name="Text Box 6"/>
                <p:cNvSpPr/>
                <p:nvPr/>
              </p:nvSpPr>
              <p:spPr>
                <a:xfrm>
                  <a:off x="356760" y="1223640"/>
                  <a:ext cx="8644320" cy="118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간호원칙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안전하고 익숙한 환경 유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규칙적 생활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긴장과 피로의 예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부적절한 자극의 제거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과도하고 불필요한 요구의 억제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800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간호자 행동원칙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간호방법의 이해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잔존능력 활용 등</a:t>
                  </a:r>
                  <a:r>
                    <a:rPr b="0" lang="en-US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교재 </a:t>
                  </a:r>
                  <a:r>
                    <a:rPr b="0" lang="en-US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165-166</a:t>
                  </a:r>
                  <a:r>
                    <a:rPr b="0" lang="ko-KR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쪽 참조</a:t>
                  </a:r>
                  <a:r>
                    <a:rPr b="0" lang="en-US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58" name="그룹 47"/>
            <p:cNvGrpSpPr/>
            <p:nvPr/>
          </p:nvGrpSpPr>
          <p:grpSpPr>
            <a:xfrm>
              <a:off x="285480" y="2571840"/>
              <a:ext cx="8715600" cy="1643040"/>
              <a:chOff x="285480" y="2571840"/>
              <a:chExt cx="8715600" cy="1643040"/>
            </a:xfrm>
          </p:grpSpPr>
          <p:sp>
            <p:nvSpPr>
              <p:cNvPr id="559" name="AutoShape 2"/>
              <p:cNvSpPr/>
              <p:nvPr/>
            </p:nvSpPr>
            <p:spPr>
              <a:xfrm>
                <a:off x="285480" y="2928960"/>
                <a:ext cx="8715600" cy="1285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60" name="그룹 10"/>
              <p:cNvGrpSpPr/>
              <p:nvPr/>
            </p:nvGrpSpPr>
            <p:grpSpPr>
              <a:xfrm>
                <a:off x="356760" y="2571840"/>
                <a:ext cx="8644320" cy="1621800"/>
                <a:chOff x="356760" y="2571840"/>
                <a:chExt cx="8644320" cy="1621800"/>
              </a:xfrm>
            </p:grpSpPr>
            <p:sp>
              <p:nvSpPr>
                <p:cNvPr id="561" name="AutoShape 4"/>
                <p:cNvSpPr/>
                <p:nvPr/>
              </p:nvSpPr>
              <p:spPr>
                <a:xfrm>
                  <a:off x="356760" y="2571840"/>
                  <a:ext cx="4643640" cy="360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300" spc="-1" strike="noStrike">
                      <a:solidFill>
                        <a:srgbClr val="ffffff"/>
                      </a:solidFill>
                      <a:latin typeface="HY강B"/>
                    </a:rPr>
                    <a:t>2) </a:t>
                  </a:r>
                  <a:r>
                    <a:rPr b="1" lang="ko-KR" sz="2300" spc="-1" strike="noStrike">
                      <a:solidFill>
                        <a:srgbClr val="ffffff"/>
                      </a:solidFill>
                      <a:latin typeface="HY강B"/>
                    </a:rPr>
                    <a:t>의사소통 방법</a:t>
                  </a:r>
                  <a:endParaRPr b="0" lang="en-US" sz="23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62" name="Text Box 6"/>
                <p:cNvSpPr/>
                <p:nvPr/>
              </p:nvSpPr>
              <p:spPr>
                <a:xfrm>
                  <a:off x="356760" y="3009960"/>
                  <a:ext cx="8644320" cy="118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주의집중 시키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경청하며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환자의 페이스에 맞춰 자주 대화하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얼굴을 마주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보고 비언어적 방법을 동시에 활용하는 등의 대화법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800"/>
                    </a:spcBef>
                    <a:buSzPct val="10281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상세한 대화방법은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교재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166-167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쪽 참조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63" name="그룹 52"/>
            <p:cNvGrpSpPr/>
            <p:nvPr/>
          </p:nvGrpSpPr>
          <p:grpSpPr>
            <a:xfrm>
              <a:off x="285480" y="4429080"/>
              <a:ext cx="8715600" cy="2023200"/>
              <a:chOff x="285480" y="4429080"/>
              <a:chExt cx="8715600" cy="2023200"/>
            </a:xfrm>
          </p:grpSpPr>
          <p:sp>
            <p:nvSpPr>
              <p:cNvPr id="564" name="AutoShape 2"/>
              <p:cNvSpPr/>
              <p:nvPr/>
            </p:nvSpPr>
            <p:spPr>
              <a:xfrm>
                <a:off x="285480" y="4786200"/>
                <a:ext cx="8715600" cy="1643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65" name="그룹 10"/>
              <p:cNvGrpSpPr/>
              <p:nvPr/>
            </p:nvGrpSpPr>
            <p:grpSpPr>
              <a:xfrm>
                <a:off x="356760" y="4429080"/>
                <a:ext cx="8644320" cy="2023200"/>
                <a:chOff x="356760" y="4429080"/>
                <a:chExt cx="8644320" cy="2023200"/>
              </a:xfrm>
            </p:grpSpPr>
            <p:sp>
              <p:nvSpPr>
                <p:cNvPr id="566" name="AutoShape 4"/>
                <p:cNvSpPr/>
                <p:nvPr/>
              </p:nvSpPr>
              <p:spPr>
                <a:xfrm>
                  <a:off x="356760" y="4429080"/>
                  <a:ext cx="4643640" cy="360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300" spc="-1" strike="noStrike">
                      <a:solidFill>
                        <a:srgbClr val="ffffff"/>
                      </a:solidFill>
                      <a:latin typeface="HY강B"/>
                    </a:rPr>
                    <a:t>3) </a:t>
                  </a:r>
                  <a:r>
                    <a:rPr b="1" lang="ko-KR" sz="2300" spc="-1" strike="noStrike">
                      <a:solidFill>
                        <a:srgbClr val="ffffff"/>
                      </a:solidFill>
                      <a:latin typeface="HY강B"/>
                    </a:rPr>
                    <a:t>일상생활 간호</a:t>
                  </a:r>
                  <a:endParaRPr b="0" lang="en-US" sz="23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67" name="Text Box 6"/>
                <p:cNvSpPr/>
                <p:nvPr/>
              </p:nvSpPr>
              <p:spPr>
                <a:xfrm>
                  <a:off x="356760" y="4867200"/>
                  <a:ext cx="8644320" cy="158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치매 진행과 함께 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ADL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이 감퇴하므로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이의 보완을 위한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care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필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400"/>
                    </a:spcBef>
                    <a:buSzPct val="10281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기본적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ADL care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방법은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제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4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장의 방법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과 유사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400"/>
                    </a:spcBef>
                    <a:buSzPct val="10281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목욕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화장실 이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요리와 식사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옷갈아입기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운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음주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흡연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구강위생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피부관리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보행과 이동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교재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168-172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쪽 참조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8" name="그룹 11"/>
          <p:cNvGrpSpPr/>
          <p:nvPr/>
        </p:nvGrpSpPr>
        <p:grpSpPr>
          <a:xfrm>
            <a:off x="285840" y="142920"/>
            <a:ext cx="8715240" cy="6279480"/>
            <a:chOff x="285840" y="142920"/>
            <a:chExt cx="8715240" cy="6279480"/>
          </a:xfrm>
        </p:grpSpPr>
        <p:grpSp>
          <p:nvGrpSpPr>
            <p:cNvPr id="569" name="그룹 1"/>
            <p:cNvGrpSpPr/>
            <p:nvPr/>
          </p:nvGrpSpPr>
          <p:grpSpPr>
            <a:xfrm>
              <a:off x="285840" y="142920"/>
              <a:ext cx="8715240" cy="4500360"/>
              <a:chOff x="285840" y="142920"/>
              <a:chExt cx="8715240" cy="4500360"/>
            </a:xfrm>
          </p:grpSpPr>
          <p:sp>
            <p:nvSpPr>
              <p:cNvPr id="570" name="AutoShape 2"/>
              <p:cNvSpPr/>
              <p:nvPr/>
            </p:nvSpPr>
            <p:spPr>
              <a:xfrm>
                <a:off x="285840" y="517680"/>
                <a:ext cx="8715240" cy="41256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71" name="그룹 10"/>
              <p:cNvGrpSpPr/>
              <p:nvPr/>
            </p:nvGrpSpPr>
            <p:grpSpPr>
              <a:xfrm>
                <a:off x="357120" y="142920"/>
                <a:ext cx="7929720" cy="4406400"/>
                <a:chOff x="357120" y="142920"/>
                <a:chExt cx="7929720" cy="4406400"/>
              </a:xfrm>
            </p:grpSpPr>
            <p:sp>
              <p:nvSpPr>
                <p:cNvPr id="572" name="AutoShape 4"/>
                <p:cNvSpPr/>
                <p:nvPr/>
              </p:nvSpPr>
              <p:spPr>
                <a:xfrm>
                  <a:off x="357120" y="142920"/>
                  <a:ext cx="5400720" cy="4489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4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증상과 문제행동에 대한 대처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73" name="Text Box 6"/>
                <p:cNvSpPr/>
                <p:nvPr/>
              </p:nvSpPr>
              <p:spPr>
                <a:xfrm>
                  <a:off x="642600" y="674640"/>
                  <a:ext cx="7644240" cy="38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기억장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회상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ADL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훈련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미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원예 등의 반복과 지속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동장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편안하게 느끼는 사람과 자주 접촉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배회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주소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전화번호 등을 옷이나 팔찌에 표기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망상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의심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도둑망상에 대비해 예비물건 준비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수집벽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훈계하지 않고 되돌려 주기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공격행동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환자 안정 및 주의 돌리기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석양증후군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조명 밝게 하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같이 있어 주기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수면장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낮 동안 가벼운 운동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이상행동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욕설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성적 이상행동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배변 등 수용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10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섭식장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간식준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위험한 물질 치우기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1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반복행동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다른 바람직한 행동으로 유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관심 돌리기 등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74" name="그룹 6"/>
            <p:cNvGrpSpPr/>
            <p:nvPr/>
          </p:nvGrpSpPr>
          <p:grpSpPr>
            <a:xfrm>
              <a:off x="285840" y="4846680"/>
              <a:ext cx="8715240" cy="1575720"/>
              <a:chOff x="285840" y="4846680"/>
              <a:chExt cx="8715240" cy="1575720"/>
            </a:xfrm>
          </p:grpSpPr>
          <p:sp>
            <p:nvSpPr>
              <p:cNvPr id="575" name="AutoShape 2"/>
              <p:cNvSpPr/>
              <p:nvPr/>
            </p:nvSpPr>
            <p:spPr>
              <a:xfrm>
                <a:off x="285840" y="5203800"/>
                <a:ext cx="8715240" cy="12142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76" name="그룹 10"/>
              <p:cNvGrpSpPr/>
              <p:nvPr/>
            </p:nvGrpSpPr>
            <p:grpSpPr>
              <a:xfrm>
                <a:off x="357120" y="4846680"/>
                <a:ext cx="7929720" cy="1575720"/>
                <a:chOff x="357120" y="4846680"/>
                <a:chExt cx="7929720" cy="1575720"/>
              </a:xfrm>
            </p:grpSpPr>
            <p:sp>
              <p:nvSpPr>
                <p:cNvPr id="577" name="AutoShape 4"/>
                <p:cNvSpPr/>
                <p:nvPr/>
              </p:nvSpPr>
              <p:spPr>
                <a:xfrm>
                  <a:off x="357120" y="4846680"/>
                  <a:ext cx="5400720" cy="4284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5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안전관리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78" name="Text Box 6"/>
                <p:cNvSpPr/>
                <p:nvPr/>
              </p:nvSpPr>
              <p:spPr>
                <a:xfrm>
                  <a:off x="642600" y="5352840"/>
                  <a:ext cx="7644240" cy="106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1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치매노인은 기억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판단장애 등으로 사고 위험성 증가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1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일상생활 습관을 정확히 이해하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고를 예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전 대비해야 함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1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세한 안전사고 예방 및 대처방법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교재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178-179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쪽 참조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9" name="그룹 8"/>
          <p:cNvGrpSpPr/>
          <p:nvPr/>
        </p:nvGrpSpPr>
        <p:grpSpPr>
          <a:xfrm>
            <a:off x="0" y="0"/>
            <a:ext cx="9358200" cy="6429240"/>
            <a:chOff x="0" y="0"/>
            <a:chExt cx="9358200" cy="6429240"/>
          </a:xfrm>
        </p:grpSpPr>
        <p:pic>
          <p:nvPicPr>
            <p:cNvPr id="580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ffffff"/>
                  </a:solidFill>
                  <a:latin typeface="HY강B"/>
                </a:rPr>
                <a:t>6. </a:t>
              </a: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치매가족의 부양부담과 지원</a:t>
              </a:r>
              <a:endParaRPr b="0" lang="en-US" sz="3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82" name="그룹 21"/>
            <p:cNvGrpSpPr/>
            <p:nvPr/>
          </p:nvGrpSpPr>
          <p:grpSpPr>
            <a:xfrm>
              <a:off x="285480" y="714240"/>
              <a:ext cx="8715600" cy="5715000"/>
              <a:chOff x="285480" y="714240"/>
              <a:chExt cx="8715600" cy="5715000"/>
            </a:xfrm>
          </p:grpSpPr>
          <p:sp>
            <p:nvSpPr>
              <p:cNvPr id="583" name="AutoShape 2"/>
              <p:cNvSpPr/>
              <p:nvPr/>
            </p:nvSpPr>
            <p:spPr>
              <a:xfrm>
                <a:off x="285480" y="1214280"/>
                <a:ext cx="8715600" cy="5214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84" name="그룹 10"/>
              <p:cNvGrpSpPr/>
              <p:nvPr/>
            </p:nvGrpSpPr>
            <p:grpSpPr>
              <a:xfrm>
                <a:off x="285480" y="714240"/>
                <a:ext cx="8572680" cy="5576760"/>
                <a:chOff x="285480" y="714240"/>
                <a:chExt cx="8572680" cy="5576760"/>
              </a:xfrm>
            </p:grpSpPr>
            <p:sp>
              <p:nvSpPr>
                <p:cNvPr id="585" name="AutoShape 4"/>
                <p:cNvSpPr/>
                <p:nvPr/>
              </p:nvSpPr>
              <p:spPr>
                <a:xfrm>
                  <a:off x="285480" y="714240"/>
                  <a:ext cx="5400720" cy="4680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1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부양자의 부양부담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86" name="Text Box 6"/>
                <p:cNvSpPr/>
                <p:nvPr/>
              </p:nvSpPr>
              <p:spPr>
                <a:xfrm>
                  <a:off x="356760" y="1357200"/>
                  <a:ext cx="8501400" cy="493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치매노인 부양으로 가족 결속력 증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부양자 자존감과 유능성 증진 등의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긍정적 효과가 없는 것은 아니나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distress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가 더 많음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901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가족은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hidden patient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로서 ‘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The 36-hours’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를 사는 사람들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치매가족의 부양부담은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6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개 영역으로 나뉘어짐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세부 내용 </a:t>
                  </a:r>
                  <a:r>
                    <a:rPr b="0" lang="ko-KR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교재 </a:t>
                  </a:r>
                  <a:r>
                    <a:rPr b="0" lang="en-US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179-181</a:t>
                  </a:r>
                  <a:r>
                    <a:rPr b="0" lang="ko-KR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쪽 참조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buClr>
                      <a:srgbClr val="c00000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적 활동제한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buClr>
                      <a:srgbClr val="c00000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심리적 부담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buClr>
                      <a:srgbClr val="c00000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재정부담과 경제활동 제약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buClr>
                      <a:srgbClr val="c00000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건강의 부정적 변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buClr>
                      <a:srgbClr val="c00000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치매노인과의 갈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buClr>
                      <a:srgbClr val="c00000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전체 가족간의 갈등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7" name="그룹 13"/>
          <p:cNvGrpSpPr/>
          <p:nvPr/>
        </p:nvGrpSpPr>
        <p:grpSpPr>
          <a:xfrm>
            <a:off x="214200" y="71280"/>
            <a:ext cx="8715600" cy="6643800"/>
            <a:chOff x="214200" y="71280"/>
            <a:chExt cx="8715600" cy="6643800"/>
          </a:xfrm>
        </p:grpSpPr>
        <p:grpSp>
          <p:nvGrpSpPr>
            <p:cNvPr id="588" name="그룹 12"/>
            <p:cNvGrpSpPr/>
            <p:nvPr/>
          </p:nvGrpSpPr>
          <p:grpSpPr>
            <a:xfrm>
              <a:off x="214200" y="5816520"/>
              <a:ext cx="7572600" cy="898560"/>
              <a:chOff x="214200" y="5816520"/>
              <a:chExt cx="7572600" cy="898560"/>
            </a:xfrm>
          </p:grpSpPr>
          <p:pic>
            <p:nvPicPr>
              <p:cNvPr id="589" name="Picture 4" descr="C:\DOCUME~1\USER\LOCALS~1\Temp\UNI000006c8818c.gif"/>
              <p:cNvPicPr/>
              <p:nvPr/>
            </p:nvPicPr>
            <p:blipFill>
              <a:blip r:embed="rId1"/>
              <a:stretch/>
            </p:blipFill>
            <p:spPr>
              <a:xfrm>
                <a:off x="214200" y="5816520"/>
                <a:ext cx="1000080" cy="89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0" name="Rectangle 4"/>
              <p:cNvSpPr/>
              <p:nvPr/>
            </p:nvSpPr>
            <p:spPr>
              <a:xfrm>
                <a:off x="1071360" y="6000480"/>
                <a:ext cx="671544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0" lang="en-US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노년기의 여가생활과 교육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91" name="그룹 22"/>
            <p:cNvGrpSpPr/>
            <p:nvPr/>
          </p:nvGrpSpPr>
          <p:grpSpPr>
            <a:xfrm>
              <a:off x="285480" y="642600"/>
              <a:ext cx="8644320" cy="5256000"/>
              <a:chOff x="285480" y="642600"/>
              <a:chExt cx="8644320" cy="5256000"/>
            </a:xfrm>
          </p:grpSpPr>
          <p:sp>
            <p:nvSpPr>
              <p:cNvPr id="592" name="AutoShape 2"/>
              <p:cNvSpPr/>
              <p:nvPr/>
            </p:nvSpPr>
            <p:spPr>
              <a:xfrm>
                <a:off x="285480" y="3571920"/>
                <a:ext cx="8644320" cy="22863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3" name="AutoShape 2"/>
              <p:cNvSpPr/>
              <p:nvPr/>
            </p:nvSpPr>
            <p:spPr>
              <a:xfrm>
                <a:off x="285480" y="999720"/>
                <a:ext cx="8644320" cy="20718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4" name="Text Box 6"/>
              <p:cNvSpPr/>
              <p:nvPr/>
            </p:nvSpPr>
            <p:spPr>
              <a:xfrm>
                <a:off x="356760" y="999720"/>
                <a:ext cx="8501760" cy="21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심리교육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자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워크숍 등과 유사한 방법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목적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육과 정보제공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상호지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집단구성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급적 동질적 집단이 바람직하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방과 폐쇄집단 모두 활용 가능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집단의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매의 임상적 이해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간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관계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스트레스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서비스 정보 및 자원연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조모임 조직화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도자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1~2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명의 전문가가 지도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생적 지도력 개발이 중요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의사항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session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길이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자 보호서비스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회합장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송서비스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5" name="직사각형 17"/>
              <p:cNvSpPr/>
              <p:nvPr/>
            </p:nvSpPr>
            <p:spPr>
              <a:xfrm>
                <a:off x="285480" y="642600"/>
                <a:ext cx="507240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en-US" sz="2200" spc="-1" strike="noStrike">
                    <a:solidFill>
                      <a:srgbClr val="c00000"/>
                    </a:solidFill>
                    <a:latin typeface="Arial"/>
                  </a:rPr>
                  <a:t>Educational Support Group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96" name="그룹 10"/>
              <p:cNvGrpSpPr/>
              <p:nvPr/>
            </p:nvGrpSpPr>
            <p:grpSpPr>
              <a:xfrm>
                <a:off x="285480" y="3214800"/>
                <a:ext cx="8644320" cy="2683800"/>
                <a:chOff x="285480" y="3214800"/>
                <a:chExt cx="8644320" cy="2683800"/>
              </a:xfrm>
            </p:grpSpPr>
            <p:sp>
              <p:nvSpPr>
                <p:cNvPr id="597" name="직사각형 18"/>
                <p:cNvSpPr/>
                <p:nvPr/>
              </p:nvSpPr>
              <p:spPr>
                <a:xfrm>
                  <a:off x="285480" y="3214800"/>
                  <a:ext cx="664416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buSzPct val="102909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200" spc="-1" strike="noStrike">
                      <a:solidFill>
                        <a:srgbClr val="c00000"/>
                      </a:solidFill>
                      <a:latin typeface="Arial"/>
                    </a:rPr>
                    <a:t>  </a:t>
                  </a:r>
                  <a:r>
                    <a:rPr b="0" lang="ko-KR" sz="2200" spc="-1" strike="noStrike">
                      <a:solidFill>
                        <a:srgbClr val="c00000"/>
                      </a:solidFill>
                      <a:latin typeface="Arial"/>
                    </a:rPr>
                    <a:t>치매가족 상담과 치료</a:t>
                  </a:r>
                  <a:r>
                    <a:rPr b="0" lang="en-US" sz="2200" spc="-1" strike="noStrike">
                      <a:solidFill>
                        <a:srgbClr val="c00000"/>
                      </a:solidFill>
                      <a:latin typeface="Arial"/>
                    </a:rPr>
                    <a:t>, </a:t>
                  </a:r>
                  <a:r>
                    <a:rPr b="0" lang="ko-KR" sz="2200" spc="-1" strike="noStrike">
                      <a:solidFill>
                        <a:srgbClr val="c00000"/>
                      </a:solidFill>
                      <a:latin typeface="Arial"/>
                    </a:rPr>
                    <a:t>사회서비스</a:t>
                  </a:r>
                  <a:endParaRPr b="0" lang="en-US" sz="22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98" name="Text Box 6"/>
                <p:cNvSpPr/>
                <p:nvPr/>
              </p:nvSpPr>
              <p:spPr>
                <a:xfrm>
                  <a:off x="356760" y="3643200"/>
                  <a:ext cx="8573040" cy="225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37"/>
                    <a:buBlip>
                      <a:blip r:embed="rId10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전화상담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치매에 관한 전문지식 갖춘 상담자가 담당하는 것이 바람직함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37"/>
                    <a:buBlip>
                      <a:blip r:embed="rId1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인터넷상담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가능한 한 빠른 응답 필요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37"/>
                    <a:buBlip>
                      <a:blip r:embed="rId1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가족상담과 치료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전통적 가족치료보다는 부양협력체계 구축을 통한 역기능적 상호작용의 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반복 차단 바람직</a:t>
                  </a:r>
                  <a:r>
                    <a:rPr b="0" lang="en-US" sz="16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6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그림 </a:t>
                  </a:r>
                  <a:r>
                    <a:rPr b="0" lang="en-US" sz="16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5-3 </a:t>
                  </a:r>
                  <a:r>
                    <a:rPr b="0" lang="ko-KR" sz="16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6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) 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37"/>
                    <a:buBlip>
                      <a:blip r:embed="rId1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휴식서비스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가사지원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방문간호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주간보호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여가서비스 등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37"/>
                    <a:buBlip>
                      <a:blip r:embed="rId1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치매가족 자조집단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가족에 의한 비구조화된 집단운영이 바람직하지만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초기에는 전문가 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개입이 필요하며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교육지지집단과 유사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99" name="AutoShape 4"/>
            <p:cNvSpPr/>
            <p:nvPr/>
          </p:nvSpPr>
          <p:spPr>
            <a:xfrm>
              <a:off x="356760" y="71280"/>
              <a:ext cx="5400720" cy="468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600" spc="-1" strike="noStrike">
                  <a:solidFill>
                    <a:srgbClr val="ffffff"/>
                  </a:solidFill>
                  <a:latin typeface="HY강B"/>
                </a:rPr>
                <a:t>치매가족 지원방안</a:t>
              </a:r>
              <a:r>
                <a:rPr b="1" lang="en-US" sz="2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00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401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2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03" name="Line 9"/>
          <p:cNvSpPr/>
          <p:nvPr/>
        </p:nvSpPr>
        <p:spPr>
          <a:xfrm flipV="1">
            <a:off x="0" y="2928600"/>
            <a:ext cx="1000080" cy="10717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4" name="Line 12"/>
          <p:cNvSpPr/>
          <p:nvPr/>
        </p:nvSpPr>
        <p:spPr>
          <a:xfrm flipV="1">
            <a:off x="0" y="3975120"/>
            <a:ext cx="1357200" cy="4608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5" name="Line 13"/>
          <p:cNvSpPr/>
          <p:nvPr/>
        </p:nvSpPr>
        <p:spPr>
          <a:xfrm>
            <a:off x="0" y="4000680"/>
            <a:ext cx="857160" cy="1935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6" name="Line 64"/>
          <p:cNvSpPr/>
          <p:nvPr/>
        </p:nvSpPr>
        <p:spPr>
          <a:xfrm>
            <a:off x="0" y="3994200"/>
            <a:ext cx="857160" cy="9349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7" name="Line 9"/>
          <p:cNvSpPr/>
          <p:nvPr/>
        </p:nvSpPr>
        <p:spPr>
          <a:xfrm flipV="1">
            <a:off x="0" y="2214720"/>
            <a:ext cx="928800" cy="16365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08" name="Group 44"/>
          <p:cNvGrpSpPr/>
          <p:nvPr/>
        </p:nvGrpSpPr>
        <p:grpSpPr>
          <a:xfrm>
            <a:off x="642960" y="1824120"/>
            <a:ext cx="8199360" cy="4458600"/>
            <a:chOff x="642960" y="1824120"/>
            <a:chExt cx="8199360" cy="4458600"/>
          </a:xfrm>
        </p:grpSpPr>
        <p:sp>
          <p:nvSpPr>
            <p:cNvPr id="409" name="AutoShape 4"/>
            <p:cNvSpPr/>
            <p:nvPr/>
          </p:nvSpPr>
          <p:spPr>
            <a:xfrm>
              <a:off x="1622520" y="1824120"/>
              <a:ext cx="7199280" cy="6703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치매의 개념과 특성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10" name="Group 14"/>
            <p:cNvGrpSpPr/>
            <p:nvPr/>
          </p:nvGrpSpPr>
          <p:grpSpPr>
            <a:xfrm>
              <a:off x="642960" y="1840320"/>
              <a:ext cx="856800" cy="714600"/>
              <a:chOff x="642960" y="1840320"/>
              <a:chExt cx="856800" cy="714600"/>
            </a:xfrm>
          </p:grpSpPr>
          <p:sp>
            <p:nvSpPr>
              <p:cNvPr id="411" name="Oval 15"/>
              <p:cNvSpPr/>
              <p:nvPr/>
            </p:nvSpPr>
            <p:spPr>
              <a:xfrm>
                <a:off x="664200" y="18403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2" name="Oval 16"/>
              <p:cNvSpPr/>
              <p:nvPr/>
            </p:nvSpPr>
            <p:spPr>
              <a:xfrm>
                <a:off x="664200" y="184248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13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18468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4" name="Text Box 18"/>
              <p:cNvSpPr/>
              <p:nvPr/>
            </p:nvSpPr>
            <p:spPr>
              <a:xfrm>
                <a:off x="642960" y="184860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15" name="Group 14"/>
            <p:cNvGrpSpPr/>
            <p:nvPr/>
          </p:nvGrpSpPr>
          <p:grpSpPr>
            <a:xfrm>
              <a:off x="642960" y="2777040"/>
              <a:ext cx="856800" cy="714600"/>
              <a:chOff x="642960" y="2777040"/>
              <a:chExt cx="856800" cy="714600"/>
            </a:xfrm>
          </p:grpSpPr>
          <p:sp>
            <p:nvSpPr>
              <p:cNvPr id="416" name="Oval 15"/>
              <p:cNvSpPr/>
              <p:nvPr/>
            </p:nvSpPr>
            <p:spPr>
              <a:xfrm>
                <a:off x="664200" y="27770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7" name="Oval 16"/>
              <p:cNvSpPr/>
              <p:nvPr/>
            </p:nvSpPr>
            <p:spPr>
              <a:xfrm>
                <a:off x="664200" y="277920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18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27835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9" name="Text Box 18"/>
              <p:cNvSpPr/>
              <p:nvPr/>
            </p:nvSpPr>
            <p:spPr>
              <a:xfrm>
                <a:off x="642960" y="27835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20" name="Group 14"/>
            <p:cNvGrpSpPr/>
            <p:nvPr/>
          </p:nvGrpSpPr>
          <p:grpSpPr>
            <a:xfrm>
              <a:off x="642960" y="3715200"/>
              <a:ext cx="856800" cy="714600"/>
              <a:chOff x="642960" y="3715200"/>
              <a:chExt cx="856800" cy="714600"/>
            </a:xfrm>
          </p:grpSpPr>
          <p:sp>
            <p:nvSpPr>
              <p:cNvPr id="421" name="Oval 15"/>
              <p:cNvSpPr/>
              <p:nvPr/>
            </p:nvSpPr>
            <p:spPr>
              <a:xfrm>
                <a:off x="664200" y="371520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2" name="Oval 16"/>
              <p:cNvSpPr/>
              <p:nvPr/>
            </p:nvSpPr>
            <p:spPr>
              <a:xfrm>
                <a:off x="664200" y="371736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23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7216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4" name="Text Box 18"/>
              <p:cNvSpPr/>
              <p:nvPr/>
            </p:nvSpPr>
            <p:spPr>
              <a:xfrm>
                <a:off x="642960" y="371916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14"/>
            <p:cNvGrpSpPr/>
            <p:nvPr/>
          </p:nvGrpSpPr>
          <p:grpSpPr>
            <a:xfrm>
              <a:off x="642960" y="4651920"/>
              <a:ext cx="856800" cy="714960"/>
              <a:chOff x="642960" y="4651920"/>
              <a:chExt cx="856800" cy="714960"/>
            </a:xfrm>
          </p:grpSpPr>
          <p:sp>
            <p:nvSpPr>
              <p:cNvPr id="426" name="Oval 15"/>
              <p:cNvSpPr/>
              <p:nvPr/>
            </p:nvSpPr>
            <p:spPr>
              <a:xfrm>
                <a:off x="664200" y="4651920"/>
                <a:ext cx="777600" cy="71496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7" name="Oval 16"/>
              <p:cNvSpPr/>
              <p:nvPr/>
            </p:nvSpPr>
            <p:spPr>
              <a:xfrm>
                <a:off x="664200" y="465408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28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658400"/>
                <a:ext cx="694440" cy="66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9" name="Text Box 18"/>
              <p:cNvSpPr/>
              <p:nvPr/>
            </p:nvSpPr>
            <p:spPr>
              <a:xfrm>
                <a:off x="642960" y="46558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30" name="Group 14"/>
            <p:cNvGrpSpPr/>
            <p:nvPr/>
          </p:nvGrpSpPr>
          <p:grpSpPr>
            <a:xfrm>
              <a:off x="642960" y="5568120"/>
              <a:ext cx="856800" cy="714600"/>
              <a:chOff x="642960" y="5568120"/>
              <a:chExt cx="856800" cy="714600"/>
            </a:xfrm>
          </p:grpSpPr>
          <p:sp>
            <p:nvSpPr>
              <p:cNvPr id="431" name="Oval 15"/>
              <p:cNvSpPr/>
              <p:nvPr/>
            </p:nvSpPr>
            <p:spPr>
              <a:xfrm>
                <a:off x="664200" y="55681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2" name="Oval 16"/>
              <p:cNvSpPr/>
              <p:nvPr/>
            </p:nvSpPr>
            <p:spPr>
              <a:xfrm>
                <a:off x="664200" y="557028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33" name="Picture 17" descr="알"/>
              <p:cNvPicPr/>
              <p:nvPr/>
            </p:nvPicPr>
            <p:blipFill>
              <a:blip r:embed="rId6"/>
              <a:stretch/>
            </p:blipFill>
            <p:spPr>
              <a:xfrm>
                <a:off x="713160" y="55746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4" name="Text Box 18"/>
              <p:cNvSpPr/>
              <p:nvPr/>
            </p:nvSpPr>
            <p:spPr>
              <a:xfrm>
                <a:off x="642960" y="55720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Ⅴ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35" name="AutoShape 4"/>
            <p:cNvSpPr/>
            <p:nvPr/>
          </p:nvSpPr>
          <p:spPr>
            <a:xfrm>
              <a:off x="1643040" y="2760480"/>
              <a:ext cx="7199280" cy="6721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치매의 원인과 증상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6" name="AutoShape 4"/>
            <p:cNvSpPr/>
            <p:nvPr/>
          </p:nvSpPr>
          <p:spPr>
            <a:xfrm>
              <a:off x="1622520" y="369720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치매의 주요 증상과 진행과정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7" name="AutoShape 4"/>
            <p:cNvSpPr/>
            <p:nvPr/>
          </p:nvSpPr>
          <p:spPr>
            <a:xfrm>
              <a:off x="1643040" y="463428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치매의 예방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진단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치료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간호방법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8" name="AutoShape 4"/>
            <p:cNvSpPr/>
            <p:nvPr/>
          </p:nvSpPr>
          <p:spPr>
            <a:xfrm>
              <a:off x="1643040" y="5571000"/>
              <a:ext cx="7199280" cy="6778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b007f"/>
                </a:gs>
                <a:gs pos="100000">
                  <a:srgbClr val="a100db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치매가족의 부양부담과 지원방안 이해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9" name="AutoShape 4"/>
            <p:cNvSpPr/>
            <p:nvPr/>
          </p:nvSpPr>
          <p:spPr>
            <a:xfrm>
              <a:off x="1622520" y="1833120"/>
              <a:ext cx="7199280" cy="6703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치매의 개념과 특성 이해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0" name="AutoShape 4"/>
            <p:cNvSpPr/>
            <p:nvPr/>
          </p:nvSpPr>
          <p:spPr>
            <a:xfrm>
              <a:off x="1643040" y="2769840"/>
              <a:ext cx="7199280" cy="67176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치매의 원인과 유형의 이해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1" name="AutoShape 4"/>
            <p:cNvSpPr/>
            <p:nvPr/>
          </p:nvSpPr>
          <p:spPr>
            <a:xfrm>
              <a:off x="1622520" y="370656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치매의 주요 증상과 진행과정의 이해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2" name="AutoShape 4"/>
            <p:cNvSpPr/>
            <p:nvPr/>
          </p:nvSpPr>
          <p:spPr>
            <a:xfrm>
              <a:off x="1643040" y="464328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치매의 예방</a:t>
              </a: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진단</a:t>
              </a: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치료</a:t>
              </a: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간호방법의 이해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43" name="AutoShape 7"/>
          <p:cNvSpPr/>
          <p:nvPr/>
        </p:nvSpPr>
        <p:spPr>
          <a:xfrm>
            <a:off x="250920" y="1211400"/>
            <a:ext cx="1606320" cy="43164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800" spc="-1" strike="noStrike">
                <a:solidFill>
                  <a:srgbClr val="ffffff"/>
                </a:solidFill>
                <a:latin typeface="HY강B"/>
                <a:ea typeface="HY강B"/>
              </a:rPr>
              <a:t>5 </a:t>
            </a: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장 치매의 이해</a:t>
            </a:r>
            <a:endParaRPr b="0" lang="en-US" sz="38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" name="그룹 11"/>
          <p:cNvGrpSpPr/>
          <p:nvPr/>
        </p:nvGrpSpPr>
        <p:grpSpPr>
          <a:xfrm>
            <a:off x="0" y="0"/>
            <a:ext cx="9144000" cy="6076800"/>
            <a:chOff x="0" y="0"/>
            <a:chExt cx="9144000" cy="6076800"/>
          </a:xfrm>
        </p:grpSpPr>
        <p:sp>
          <p:nvSpPr>
            <p:cNvPr id="446" name="AutoShape 2"/>
            <p:cNvSpPr/>
            <p:nvPr/>
          </p:nvSpPr>
          <p:spPr>
            <a:xfrm>
              <a:off x="180720" y="1714320"/>
              <a:ext cx="8820360" cy="1500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447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치매의 개념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49" name="그룹 10"/>
            <p:cNvGrpSpPr/>
            <p:nvPr/>
          </p:nvGrpSpPr>
          <p:grpSpPr>
            <a:xfrm>
              <a:off x="0" y="1139760"/>
              <a:ext cx="8572680" cy="1992600"/>
              <a:chOff x="0" y="1139760"/>
              <a:chExt cx="8572680" cy="1992600"/>
            </a:xfrm>
          </p:grpSpPr>
          <p:sp>
            <p:nvSpPr>
              <p:cNvPr id="450" name="AutoShape 29"/>
              <p:cNvSpPr/>
              <p:nvPr/>
            </p:nvSpPr>
            <p:spPr>
              <a:xfrm>
                <a:off x="0" y="1139760"/>
                <a:ext cx="8572680" cy="43164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용어의 의미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1" name="Text Box 25"/>
              <p:cNvSpPr/>
              <p:nvPr/>
            </p:nvSpPr>
            <p:spPr>
              <a:xfrm>
                <a:off x="285480" y="1819080"/>
                <a:ext cx="8215560" cy="131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Dementia=de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없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 + ment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=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제 정신이 아니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이 나갔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癡呆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=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병들어 기댄다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심한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=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심이 많아지는 병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서장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痴呆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=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병들어 기댄다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앎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=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아는 것에 병이 듦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지장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52" name="AutoShape 2"/>
            <p:cNvSpPr/>
            <p:nvPr/>
          </p:nvSpPr>
          <p:spPr>
            <a:xfrm>
              <a:off x="180720" y="4000680"/>
              <a:ext cx="8820360" cy="2071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53" name="그룹 10"/>
            <p:cNvGrpSpPr/>
            <p:nvPr/>
          </p:nvGrpSpPr>
          <p:grpSpPr>
            <a:xfrm>
              <a:off x="142560" y="3500640"/>
              <a:ext cx="8786880" cy="2576160"/>
              <a:chOff x="142560" y="3500640"/>
              <a:chExt cx="8786880" cy="2576160"/>
            </a:xfrm>
          </p:grpSpPr>
          <p:sp>
            <p:nvSpPr>
              <p:cNvPr id="454" name="AutoShape 29"/>
              <p:cNvSpPr/>
              <p:nvPr/>
            </p:nvSpPr>
            <p:spPr>
              <a:xfrm>
                <a:off x="142560" y="350064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개념정의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5" name="Text Box 25"/>
              <p:cNvSpPr/>
              <p:nvPr/>
            </p:nvSpPr>
            <p:spPr>
              <a:xfrm>
                <a:off x="290160" y="4000680"/>
                <a:ext cx="8639280" cy="20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뇌병변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腦病變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에 의해 기억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판단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남력 장애 등의 인지기능과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등 정신기능이 감퇴하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서장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격변화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 ADL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장애가 수반되어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직업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상적 사회활동과 대인관계에 장애를 초래하는 노년기의 대표적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질성 정신장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organic mental disorder)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매노인의 뇌구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그룹 1"/>
          <p:cNvGrpSpPr/>
          <p:nvPr/>
        </p:nvGrpSpPr>
        <p:grpSpPr>
          <a:xfrm>
            <a:off x="214200" y="142920"/>
            <a:ext cx="8572680" cy="6215040"/>
            <a:chOff x="214200" y="142920"/>
            <a:chExt cx="8572680" cy="6215040"/>
          </a:xfrm>
        </p:grpSpPr>
        <p:grpSp>
          <p:nvGrpSpPr>
            <p:cNvPr id="457" name="그룹 1"/>
            <p:cNvGrpSpPr/>
            <p:nvPr/>
          </p:nvGrpSpPr>
          <p:grpSpPr>
            <a:xfrm>
              <a:off x="394920" y="714240"/>
              <a:ext cx="8320320" cy="5643720"/>
              <a:chOff x="394920" y="714240"/>
              <a:chExt cx="8320320" cy="5643720"/>
            </a:xfrm>
          </p:grpSpPr>
          <p:sp>
            <p:nvSpPr>
              <p:cNvPr id="458" name="AutoShape 2"/>
              <p:cNvSpPr/>
              <p:nvPr/>
            </p:nvSpPr>
            <p:spPr>
              <a:xfrm>
                <a:off x="394920" y="714240"/>
                <a:ext cx="8320320" cy="56437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9" name="Text Box 6"/>
              <p:cNvSpPr/>
              <p:nvPr/>
            </p:nvSpPr>
            <p:spPr>
              <a:xfrm>
                <a:off x="570960" y="960120"/>
                <a:ext cx="7858440" cy="520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치매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뇌병변에 의한 기질성 정신장애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우울증으로 인지기능 저하와 치매증상을 보이는 가성치매와 다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치매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후천적 인지기능 장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선천적 인지기능장애를 지닌 지적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장애와는 다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치매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로 노년기에 발병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중장년기에 발병하는 조발성 치매가 있으나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주로 노년기에 발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치매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원인과 증상이 매우 다양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70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가지 이상의 원인에 의해 발병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원인에 따라 증상이 상이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치매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정신기능과 삶 전체의 황폐화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치료가능성이 낮아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일상생활 등 전체 삶의 황폐화 초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치매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의식장애 없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의식장애를 주된 증상으로 하는 섬망과는 다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60" name="AutoShape 29"/>
            <p:cNvSpPr/>
            <p:nvPr/>
          </p:nvSpPr>
          <p:spPr>
            <a:xfrm>
              <a:off x="214200" y="14292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05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800" spc="-1" strike="noStrike">
                  <a:solidFill>
                    <a:srgbClr val="c00000"/>
                  </a:solidFill>
                  <a:latin typeface="HY강B"/>
                </a:rPr>
                <a:t>치매의 특성과 감별진단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그룹 11"/>
          <p:cNvGrpSpPr/>
          <p:nvPr/>
        </p:nvGrpSpPr>
        <p:grpSpPr>
          <a:xfrm>
            <a:off x="0" y="0"/>
            <a:ext cx="9144000" cy="6402960"/>
            <a:chOff x="0" y="0"/>
            <a:chExt cx="9144000" cy="6402960"/>
          </a:xfrm>
        </p:grpSpPr>
        <p:pic>
          <p:nvPicPr>
            <p:cNvPr id="462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Rectangle 2"/>
            <p:cNvSpPr/>
            <p:nvPr/>
          </p:nvSpPr>
          <p:spPr>
            <a:xfrm>
              <a:off x="1428480" y="142560"/>
              <a:ext cx="685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치매의 원인과 유형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64" name="그룹 17"/>
            <p:cNvGrpSpPr/>
            <p:nvPr/>
          </p:nvGrpSpPr>
          <p:grpSpPr>
            <a:xfrm>
              <a:off x="285480" y="857160"/>
              <a:ext cx="8606160" cy="2571480"/>
              <a:chOff x="285480" y="857160"/>
              <a:chExt cx="8606160" cy="2571480"/>
            </a:xfrm>
          </p:grpSpPr>
          <p:sp>
            <p:nvSpPr>
              <p:cNvPr id="465" name="AutoShape 2"/>
              <p:cNvSpPr/>
              <p:nvPr/>
            </p:nvSpPr>
            <p:spPr>
              <a:xfrm>
                <a:off x="285480" y="1285560"/>
                <a:ext cx="8606160" cy="21430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6" name="Text Box 25"/>
              <p:cNvSpPr/>
              <p:nvPr/>
            </p:nvSpPr>
            <p:spPr>
              <a:xfrm>
                <a:off x="356760" y="1430280"/>
                <a:ext cx="8430120" cy="198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‘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암 즉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악성 신생물’이 다양한 원인에 의해 발병하는 암을 통칭하듯이‘치매’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역시 뇌 손상이나 병변에 의한 기질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氣質性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장애를 통칭하는 용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18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매 원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내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신경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과 질환 등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7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지 이상의 뇌손상과 뇌병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으로 발병하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절반 정도만 원인이 밝혀진 상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1800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매의 원인성 질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7" name="AutoShape 4"/>
              <p:cNvSpPr/>
              <p:nvPr/>
            </p:nvSpPr>
            <p:spPr>
              <a:xfrm>
                <a:off x="356760" y="857160"/>
                <a:ext cx="324000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치매의 원인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68" name="그룹 18"/>
            <p:cNvGrpSpPr/>
            <p:nvPr/>
          </p:nvGrpSpPr>
          <p:grpSpPr>
            <a:xfrm>
              <a:off x="285480" y="3504240"/>
              <a:ext cx="8712360" cy="2898720"/>
              <a:chOff x="285480" y="3504240"/>
              <a:chExt cx="8712360" cy="2898720"/>
            </a:xfrm>
          </p:grpSpPr>
          <p:sp>
            <p:nvSpPr>
              <p:cNvPr id="469" name="AutoShape 2"/>
              <p:cNvSpPr/>
              <p:nvPr/>
            </p:nvSpPr>
            <p:spPr>
              <a:xfrm>
                <a:off x="285480" y="4022280"/>
                <a:ext cx="8606880" cy="2380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0" name="Text Box 25"/>
              <p:cNvSpPr/>
              <p:nvPr/>
            </p:nvSpPr>
            <p:spPr>
              <a:xfrm>
                <a:off x="356760" y="4026960"/>
                <a:ext cx="8641080" cy="236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원인에 의한 분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50000"/>
                  </a:lnSpc>
                  <a:spcBef>
                    <a:spcPts val="18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ICD-10 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행동 또는 신경발달장애 중 신경인지장애로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8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 하위질병 분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50000"/>
                  </a:lnSpc>
                  <a:spcBef>
                    <a:spcPts val="18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APA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신경인지장애로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12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 하위질병 분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60000"/>
                  </a:lnSpc>
                  <a:spcBef>
                    <a:spcPts val="1800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료가능성에 의한 분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료 가능한 가역성 치매  </a:t>
                </a:r>
                <a:r>
                  <a:rPr b="1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vs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료 불가능한 비가역성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6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매로 분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60000"/>
                  </a:lnSpc>
                  <a:spcBef>
                    <a:spcPts val="1800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발병 연령에 의한 분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 이전에 발병하는 초로성 치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또는 조발성 치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6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와 노년기에 발병하는 노인성 치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또는 만발성 치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로 분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1" name="AutoShape 4"/>
              <p:cNvSpPr/>
              <p:nvPr/>
            </p:nvSpPr>
            <p:spPr>
              <a:xfrm>
                <a:off x="356760" y="3504240"/>
                <a:ext cx="324000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치매의 유형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2" name="그룹 18"/>
          <p:cNvGrpSpPr/>
          <p:nvPr/>
        </p:nvGrpSpPr>
        <p:grpSpPr>
          <a:xfrm>
            <a:off x="285840" y="0"/>
            <a:ext cx="8643960" cy="6429240"/>
            <a:chOff x="285840" y="0"/>
            <a:chExt cx="8643960" cy="6429240"/>
          </a:xfrm>
        </p:grpSpPr>
        <p:grpSp>
          <p:nvGrpSpPr>
            <p:cNvPr id="473" name="그룹 1"/>
            <p:cNvGrpSpPr/>
            <p:nvPr/>
          </p:nvGrpSpPr>
          <p:grpSpPr>
            <a:xfrm>
              <a:off x="285840" y="571320"/>
              <a:ext cx="8643960" cy="1643040"/>
              <a:chOff x="285840" y="571320"/>
              <a:chExt cx="8643960" cy="1643040"/>
            </a:xfrm>
          </p:grpSpPr>
          <p:sp>
            <p:nvSpPr>
              <p:cNvPr id="474" name="AutoShape 2"/>
              <p:cNvSpPr/>
              <p:nvPr/>
            </p:nvSpPr>
            <p:spPr>
              <a:xfrm>
                <a:off x="285840" y="973440"/>
                <a:ext cx="8643960" cy="1240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5" name="Text Box 6"/>
              <p:cNvSpPr/>
              <p:nvPr/>
            </p:nvSpPr>
            <p:spPr>
              <a:xfrm>
                <a:off x="357120" y="933120"/>
                <a:ext cx="8572680" cy="125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3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전체 치매의 최소 절반 이상을 차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특정한 원인 없이 뇌세포가 괴사하여  인지기능이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퇴하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반 기능이 저하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점진적 진행과정을 보이므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병 초기에는 건망증 정도로 오인하기 쉬우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기발견이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어렵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료가 불가능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6" name="직사각형 5"/>
              <p:cNvSpPr/>
              <p:nvPr/>
            </p:nvSpPr>
            <p:spPr>
              <a:xfrm>
                <a:off x="285840" y="57132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알츠하이머형 치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77" name="AutoShape 4"/>
            <p:cNvSpPr/>
            <p:nvPr/>
          </p:nvSpPr>
          <p:spPr>
            <a:xfrm>
              <a:off x="285840" y="0"/>
              <a:ext cx="3357360" cy="468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1" lang="ko-KR" sz="2600" spc="-1" strike="noStrike">
                  <a:solidFill>
                    <a:srgbClr val="ffffff"/>
                  </a:solidFill>
                  <a:latin typeface="HY강B"/>
                </a:rPr>
                <a:t>주요 치매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78" name="그룹 20"/>
            <p:cNvGrpSpPr/>
            <p:nvPr/>
          </p:nvGrpSpPr>
          <p:grpSpPr>
            <a:xfrm>
              <a:off x="285840" y="2286000"/>
              <a:ext cx="8643960" cy="1428480"/>
              <a:chOff x="285840" y="2286000"/>
              <a:chExt cx="8643960" cy="1428480"/>
            </a:xfrm>
          </p:grpSpPr>
          <p:sp>
            <p:nvSpPr>
              <p:cNvPr id="479" name="AutoShape 2"/>
              <p:cNvSpPr/>
              <p:nvPr/>
            </p:nvSpPr>
            <p:spPr>
              <a:xfrm>
                <a:off x="285840" y="2688120"/>
                <a:ext cx="8643960" cy="10263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0" name="Text Box 6"/>
              <p:cNvSpPr/>
              <p:nvPr/>
            </p:nvSpPr>
            <p:spPr>
              <a:xfrm>
                <a:off x="357120" y="2684160"/>
                <a:ext cx="8572680" cy="102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3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혈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당뇨병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장질환 등에 의한 뇌출혈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뇌경색 등 뇌혈관질환이 그 원인이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두번째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많은 치매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3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계적 진행과정을 보이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료가 가능하나 원상태로의 회복 불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1" name="직사각형 23"/>
              <p:cNvSpPr/>
              <p:nvPr/>
            </p:nvSpPr>
            <p:spPr>
              <a:xfrm>
                <a:off x="285840" y="228600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혈관성 치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82" name="그룹 24"/>
            <p:cNvGrpSpPr/>
            <p:nvPr/>
          </p:nvGrpSpPr>
          <p:grpSpPr>
            <a:xfrm>
              <a:off x="285840" y="3786120"/>
              <a:ext cx="8643960" cy="1428480"/>
              <a:chOff x="285840" y="3786120"/>
              <a:chExt cx="8643960" cy="1428480"/>
            </a:xfrm>
          </p:grpSpPr>
          <p:sp>
            <p:nvSpPr>
              <p:cNvPr id="483" name="AutoShape 2"/>
              <p:cNvSpPr/>
              <p:nvPr/>
            </p:nvSpPr>
            <p:spPr>
              <a:xfrm>
                <a:off x="285840" y="4169880"/>
                <a:ext cx="8643960" cy="10447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4" name="Text Box 6"/>
              <p:cNvSpPr/>
              <p:nvPr/>
            </p:nvSpPr>
            <p:spPr>
              <a:xfrm>
                <a:off x="357120" y="4186080"/>
                <a:ext cx="8572680" cy="102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뇌 흑질의 도파민 부족으로 인한 신체 떨림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마비 등의 운동장애이지만 말기에는 치매로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전되는 경우 많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약물치료로 운동장애 완화될 수 있지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성적 퇴행과정 거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5" name="직사각형 27"/>
              <p:cNvSpPr/>
              <p:nvPr/>
            </p:nvSpPr>
            <p:spPr>
              <a:xfrm>
                <a:off x="285840" y="378612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파킨슨병에 의한 치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86" name="그룹 36"/>
            <p:cNvGrpSpPr/>
            <p:nvPr/>
          </p:nvGrpSpPr>
          <p:grpSpPr>
            <a:xfrm>
              <a:off x="285840" y="5357880"/>
              <a:ext cx="8643960" cy="1071360"/>
              <a:chOff x="285840" y="5357880"/>
              <a:chExt cx="8643960" cy="1071360"/>
            </a:xfrm>
          </p:grpSpPr>
          <p:sp>
            <p:nvSpPr>
              <p:cNvPr id="487" name="AutoShape 2"/>
              <p:cNvSpPr/>
              <p:nvPr/>
            </p:nvSpPr>
            <p:spPr>
              <a:xfrm>
                <a:off x="285840" y="5742000"/>
                <a:ext cx="8643960" cy="6872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8" name="Text Box 6"/>
              <p:cNvSpPr/>
              <p:nvPr/>
            </p:nvSpPr>
            <p:spPr>
              <a:xfrm>
                <a:off x="357120" y="5703840"/>
                <a:ext cx="857268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3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장년기에 뇌 전두엽에서 발생하는 픽병으로 인하여 치매가 되는 경우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초기에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억장애가 심하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후 성격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행동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언어장애 나타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9" name="직사각형 39"/>
              <p:cNvSpPr/>
              <p:nvPr/>
            </p:nvSpPr>
            <p:spPr>
              <a:xfrm>
                <a:off x="285840" y="535788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픽병에 의한 치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0" name="그룹 21"/>
          <p:cNvGrpSpPr/>
          <p:nvPr/>
        </p:nvGrpSpPr>
        <p:grpSpPr>
          <a:xfrm>
            <a:off x="285840" y="71280"/>
            <a:ext cx="9072360" cy="6429240"/>
            <a:chOff x="285840" y="71280"/>
            <a:chExt cx="9072360" cy="6429240"/>
          </a:xfrm>
        </p:grpSpPr>
        <p:grpSp>
          <p:nvGrpSpPr>
            <p:cNvPr id="491" name="그룹 1"/>
            <p:cNvGrpSpPr/>
            <p:nvPr/>
          </p:nvGrpSpPr>
          <p:grpSpPr>
            <a:xfrm>
              <a:off x="285840" y="71280"/>
              <a:ext cx="8643960" cy="1428840"/>
              <a:chOff x="285840" y="71280"/>
              <a:chExt cx="8643960" cy="1428840"/>
            </a:xfrm>
          </p:grpSpPr>
          <p:sp>
            <p:nvSpPr>
              <p:cNvPr id="492" name="AutoShape 2"/>
              <p:cNvSpPr/>
              <p:nvPr/>
            </p:nvSpPr>
            <p:spPr>
              <a:xfrm>
                <a:off x="285840" y="473400"/>
                <a:ext cx="8643960" cy="10267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3" name="Text Box 6"/>
              <p:cNvSpPr/>
              <p:nvPr/>
            </p:nvSpPr>
            <p:spPr>
              <a:xfrm>
                <a:off x="357120" y="515880"/>
                <a:ext cx="8572680" cy="97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0-50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에 유전성 질환인 헌팅톤병에 의해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지장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손발과 얼굴 근육문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격변화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억장애 등을 보이는 장애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료가 불가능하지만 약물로 신체장애와 정신병적 증상의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절은 가능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4" name="직사각형 5"/>
              <p:cNvSpPr/>
              <p:nvPr/>
            </p:nvSpPr>
            <p:spPr>
              <a:xfrm>
                <a:off x="285840" y="7128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헌팅톤병에 의한 치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95" name="그룹 20"/>
            <p:cNvGrpSpPr/>
            <p:nvPr/>
          </p:nvGrpSpPr>
          <p:grpSpPr>
            <a:xfrm>
              <a:off x="285840" y="1643040"/>
              <a:ext cx="8643960" cy="1143000"/>
              <a:chOff x="285840" y="1643040"/>
              <a:chExt cx="8643960" cy="1143000"/>
            </a:xfrm>
          </p:grpSpPr>
          <p:sp>
            <p:nvSpPr>
              <p:cNvPr id="496" name="AutoShape 2"/>
              <p:cNvSpPr/>
              <p:nvPr/>
            </p:nvSpPr>
            <p:spPr>
              <a:xfrm>
                <a:off x="285840" y="2045160"/>
                <a:ext cx="8643960" cy="740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7" name="Text Box 6"/>
              <p:cNvSpPr/>
              <p:nvPr/>
            </p:nvSpPr>
            <p:spPr>
              <a:xfrm>
                <a:off x="357120" y="2071800"/>
                <a:ext cx="8572680" cy="6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비타민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B1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결핍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술 해독시의 아세트알데히드에 의한 뇌손상으로 기억장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판단장애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등의 증상을 보이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주 및 비타민 투여시 증상 호전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8" name="직사각형 23"/>
              <p:cNvSpPr/>
              <p:nvPr/>
            </p:nvSpPr>
            <p:spPr>
              <a:xfrm>
                <a:off x="285840" y="1643040"/>
                <a:ext cx="5078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알코올성 치매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Arial"/>
                  </a:rPr>
                  <a:t>(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코르사코프 증후군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Arial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99" name="그룹 24"/>
            <p:cNvGrpSpPr/>
            <p:nvPr/>
          </p:nvGrpSpPr>
          <p:grpSpPr>
            <a:xfrm>
              <a:off x="285840" y="3000240"/>
              <a:ext cx="8643960" cy="1142640"/>
              <a:chOff x="285840" y="3000240"/>
              <a:chExt cx="8643960" cy="1142640"/>
            </a:xfrm>
          </p:grpSpPr>
          <p:sp>
            <p:nvSpPr>
              <p:cNvPr id="500" name="AutoShape 2"/>
              <p:cNvSpPr/>
              <p:nvPr/>
            </p:nvSpPr>
            <p:spPr>
              <a:xfrm>
                <a:off x="285840" y="3418920"/>
                <a:ext cx="8643960" cy="6876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1" name="Text Box 6"/>
              <p:cNvSpPr/>
              <p:nvPr/>
            </p:nvSpPr>
            <p:spPr>
              <a:xfrm>
                <a:off x="357120" y="3435120"/>
                <a:ext cx="857268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3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광우병 바이러스에 의한 뇌손상으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억장애와 운동장애가 발생하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진행되면 정신증상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운동장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명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식불명 상태에 이르기도 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2" name="직사각형 27"/>
              <p:cNvSpPr/>
              <p:nvPr/>
            </p:nvSpPr>
            <p:spPr>
              <a:xfrm>
                <a:off x="285840" y="3000240"/>
                <a:ext cx="471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Arial"/>
                  </a:rPr>
                  <a:t>Creutzfelt-Jacob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병에 의한 치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03" name="그룹 36"/>
            <p:cNvGrpSpPr/>
            <p:nvPr/>
          </p:nvGrpSpPr>
          <p:grpSpPr>
            <a:xfrm>
              <a:off x="285840" y="5643720"/>
              <a:ext cx="9072360" cy="856800"/>
              <a:chOff x="285840" y="5643720"/>
              <a:chExt cx="9072360" cy="856800"/>
            </a:xfrm>
          </p:grpSpPr>
          <p:sp>
            <p:nvSpPr>
              <p:cNvPr id="504" name="AutoShape 2"/>
              <p:cNvSpPr/>
              <p:nvPr/>
            </p:nvSpPr>
            <p:spPr>
              <a:xfrm>
                <a:off x="285840" y="6072120"/>
                <a:ext cx="8643960" cy="4284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5" name="Text Box 6"/>
              <p:cNvSpPr/>
              <p:nvPr/>
            </p:nvSpPr>
            <p:spPr>
              <a:xfrm>
                <a:off x="357120" y="6091200"/>
                <a:ext cx="8572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통사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안전사고 등에 의한 치매 증가 추세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6" name="직사각형 39"/>
              <p:cNvSpPr/>
              <p:nvPr/>
            </p:nvSpPr>
            <p:spPr>
              <a:xfrm>
                <a:off x="285840" y="5643720"/>
                <a:ext cx="907236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85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Arial"/>
                  </a:rPr>
                  <a:t>AIDS,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Arial"/>
                  </a:rPr>
                  <a:t>독성물질 중독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Arial"/>
                  </a:rPr>
                  <a:t>,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Arial"/>
                  </a:rPr>
                  <a:t>정상압 뇌수종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Arial"/>
                  </a:rPr>
                  <a:t>,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Arial"/>
                  </a:rPr>
                  <a:t>두부 외상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Arial"/>
                  </a:rPr>
                  <a:t>,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Arial"/>
                  </a:rPr>
                  <a:t>대사성 질환에 의한 치매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07" name="그룹 20"/>
            <p:cNvGrpSpPr/>
            <p:nvPr/>
          </p:nvGrpSpPr>
          <p:grpSpPr>
            <a:xfrm>
              <a:off x="285840" y="4286160"/>
              <a:ext cx="8643960" cy="1143000"/>
              <a:chOff x="285840" y="4286160"/>
              <a:chExt cx="8643960" cy="1143000"/>
            </a:xfrm>
          </p:grpSpPr>
          <p:sp>
            <p:nvSpPr>
              <p:cNvPr id="508" name="AutoShape 2"/>
              <p:cNvSpPr/>
              <p:nvPr/>
            </p:nvSpPr>
            <p:spPr>
              <a:xfrm>
                <a:off x="285840" y="4688280"/>
                <a:ext cx="8643960" cy="740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9" name="Text Box 6"/>
              <p:cNvSpPr/>
              <p:nvPr/>
            </p:nvSpPr>
            <p:spPr>
              <a:xfrm>
                <a:off x="357120" y="4714560"/>
                <a:ext cx="8572680" cy="6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Lewy body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인한 퇴행성 뇌병변에 의해 발생하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운동장애와 함께 환각 증상이 나타나는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매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항정신성 약물치료가 어려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0" name="직사각형 24"/>
              <p:cNvSpPr/>
              <p:nvPr/>
            </p:nvSpPr>
            <p:spPr>
              <a:xfrm>
                <a:off x="285840" y="428616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루이소체 치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그룹 7"/>
          <p:cNvGrpSpPr/>
          <p:nvPr/>
        </p:nvGrpSpPr>
        <p:grpSpPr>
          <a:xfrm>
            <a:off x="0" y="0"/>
            <a:ext cx="9358200" cy="6286320"/>
            <a:chOff x="0" y="0"/>
            <a:chExt cx="9358200" cy="6286320"/>
          </a:xfrm>
        </p:grpSpPr>
        <p:sp>
          <p:nvSpPr>
            <p:cNvPr id="512" name="AutoShape 2"/>
            <p:cNvSpPr/>
            <p:nvPr/>
          </p:nvSpPr>
          <p:spPr>
            <a:xfrm>
              <a:off x="285480" y="1357200"/>
              <a:ext cx="8715600" cy="4929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1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3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치매의 증상과 경과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15" name="그룹 10"/>
            <p:cNvGrpSpPr/>
            <p:nvPr/>
          </p:nvGrpSpPr>
          <p:grpSpPr>
            <a:xfrm>
              <a:off x="357120" y="785520"/>
              <a:ext cx="8643960" cy="5401080"/>
              <a:chOff x="357120" y="785520"/>
              <a:chExt cx="8643960" cy="5401080"/>
            </a:xfrm>
          </p:grpSpPr>
          <p:sp>
            <p:nvSpPr>
              <p:cNvPr id="516" name="AutoShape 4"/>
              <p:cNvSpPr/>
              <p:nvPr/>
            </p:nvSpPr>
            <p:spPr>
              <a:xfrm>
                <a:off x="357120" y="785520"/>
                <a:ext cx="442908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치매의 증상과 문제행동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7" name="Text Box 6"/>
              <p:cNvSpPr/>
              <p:nvPr/>
            </p:nvSpPr>
            <p:spPr>
              <a:xfrm>
                <a:off x="357120" y="1580760"/>
                <a:ext cx="8643960" cy="46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억장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고장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판단 및 충동장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언어장애 등과 함께 성격변화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체기능 저하 등으로 인하여 직업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상생활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인관계의 장애를 초래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인지장애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억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남력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판단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계산능력 장애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정신장애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망상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불안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우울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증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각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섬망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적 이상행동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감동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 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3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언어장애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어반복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작화증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혼잣말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폭력적 언어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어증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4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행동장애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배회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면장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흥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폭력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집벽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반복행동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거부행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 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5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신체장애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행장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력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청력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편마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6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일상생활 수행장애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탁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옷입기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수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목욕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용모단장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청소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 IADL, 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식사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리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화장실 이용의 문제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7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8" name="그룹 5"/>
          <p:cNvGrpSpPr/>
          <p:nvPr/>
        </p:nvGrpSpPr>
        <p:grpSpPr>
          <a:xfrm>
            <a:off x="285840" y="285840"/>
            <a:ext cx="8715240" cy="6072120"/>
            <a:chOff x="285840" y="285840"/>
            <a:chExt cx="8715240" cy="6072120"/>
          </a:xfrm>
        </p:grpSpPr>
        <p:sp>
          <p:nvSpPr>
            <p:cNvPr id="519" name="AutoShape 2"/>
            <p:cNvSpPr/>
            <p:nvPr/>
          </p:nvSpPr>
          <p:spPr>
            <a:xfrm>
              <a:off x="285840" y="928800"/>
              <a:ext cx="8715240" cy="5429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20" name="그룹 10"/>
            <p:cNvGrpSpPr/>
            <p:nvPr/>
          </p:nvGrpSpPr>
          <p:grpSpPr>
            <a:xfrm>
              <a:off x="357120" y="285840"/>
              <a:ext cx="8429760" cy="6025320"/>
              <a:chOff x="357120" y="285840"/>
              <a:chExt cx="8429760" cy="6025320"/>
            </a:xfrm>
          </p:grpSpPr>
          <p:sp>
            <p:nvSpPr>
              <p:cNvPr id="521" name="AutoShape 4"/>
              <p:cNvSpPr/>
              <p:nvPr/>
            </p:nvSpPr>
            <p:spPr>
              <a:xfrm>
                <a:off x="357120" y="285840"/>
                <a:ext cx="457200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치매의 진행단계와 예후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2" name="Text Box 6"/>
              <p:cNvSpPr/>
              <p:nvPr/>
            </p:nvSpPr>
            <p:spPr>
              <a:xfrm>
                <a:off x="357120" y="1157400"/>
                <a:ext cx="8429760" cy="515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매의 발병 시점을 정확히 파악하기 어렵고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특성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매의 원인에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따라 진행단계와 예후는 매우 다양함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985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알츠하이머형 치매와 혈관성 치매의 진행단계 비교</a:t>
                </a: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985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초기단계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상적 노화로 착각하는 경우 많으며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최근기억장애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언어장애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남력 상실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욕상실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우울증이 나타나는 경우 많음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985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중간단계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매증상이 눈에 띄게 나타나며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억장애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상생활 동작의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어려움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타인 의존성 증가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언어장애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배회나 비정상적 행동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남력 상실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부의 경우 환각 증상을 나타내기도 함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985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말기단계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완전 의존상태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한 기억장애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체적 증상의 표출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985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평균 유병기간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알츠하이머형 치매는 평균 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정도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80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 이상은 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.8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도 생존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985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알츠하이머형 치매 노인의 경우 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내 사망률이 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-37%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성이 남성보다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그리고 혈관성 치매노인 보다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또한 늦게 발병한 경우일수록 더 오래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존함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Windows 사용자</cp:lastModifiedBy>
  <dcterms:modified xsi:type="dcterms:W3CDTF">2019-07-11T00:19:19Z</dcterms:modified>
  <cp:revision>273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